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488-F94B-40C6-97C7-A9EEC6B9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43BB-35BA-4B03-9C89-515A5DC8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E27-4990-49B7-8B39-1A143DE3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ADC-426D-465E-A0EB-2810C8B1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5DC3-3614-411A-A600-496AEA67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1ED6-8F8A-4656-8A66-2E35D595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A96F-ADA1-4011-AC04-B114016F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4BF-82B0-4F87-8637-5539FF7A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44B-236D-4D40-B49B-2A01DC05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3E61-BDEC-46C8-B978-38FC419D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658-445A-47F0-95F7-50276F7D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AFE-87EB-4293-A3F9-6851907E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1309-437B-45B4-8C58-BAAD87F7A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bax.co.jp/listen/turns.html" TargetMode="External"/><Relationship Id="rId3" Type="http://schemas.openxmlformats.org/officeDocument/2006/relationships/hyperlink" Target="http://www.teachingenglish.org.uk/think/knowledge-wiki/turn-taking" TargetMode="External"/><Relationship Id="rId4" Type="http://schemas.openxmlformats.org/officeDocument/2006/relationships/hyperlink" Target="http://www.developingteachers.com/articles_tchtraining/turntakelp2_greg.htm" TargetMode="External"/><Relationship Id="rId5" Type="http://schemas.openxmlformats.org/officeDocument/2006/relationships/hyperlink" Target="http://insights-into-tefl.blogspot.com/2007/02/on-conversation-turn-taking-and-culture.html" TargetMode="External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ing Productive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198864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ones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Writ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ve similar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ing Productive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3640" y="198864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ing dis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order for communication to be successful we have to structure our discourse in such a way that it will be understood by our listeners and rea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Wri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herent: sequence of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hesive: Linguistic ways of connecting ideas across phrases and sentences: pronouns, lexical repetition, synonymy; transitional expressions indicating addition, contrast, cause and effect, time space, importanc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Spe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olves following conversational patterns and usage of lexical phrases: the pre-fixed or semi-fixed word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ntaneous speech appears chaotic and disorganised, however speakers employ structuring devices to “buy time”, to turn-taking language and organising markers such as firstly, secondly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ing Productive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820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ing the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ople with similar cultural and linguistic backgrounds in both speaking and writing when they communicate with each other: shared schemata helps communicate successful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ciocultural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formal to be, what kind of language to use, how loud to speak, how close to stand to each other; how men and men speak to each other; different social or professional status; sociocultural rules and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n-t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gnal verbally or visually that one wants a turn or, conversely, by recognising when other speakers are signalling that they want to 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bax.co.jp/listen/turns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english.unitecnology.ac.nz/resources/resources/exp_lang/turntaking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3.telus.net/linguisticsissues/fluencyjapanese.ht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esl-lesson-plan.com/archives/2007/02/tips_and_tricks_turntaking.ph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teachingenglish.org.uk/think/knowledge-wiki/turn-tak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els.bham.ac.uk/resources/essays/yvette4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developingteachers.com/articles_tchtraining/turntakelp2_greg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nsights-into-tefl.blogspot.com/2007/02/on-conversation-turn-taking-and-culture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les for wr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styles, different written and spoken gen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: purpose of communication, form to achieve the purpose, setting, channel (microph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: Lecture, informal conversation, magazine article, e-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level of formality, intimacy, grammar, ‘distance’ &amp; ‘closenes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UDENTS NEED PRACTICE IN BOTH speaking and writing: different genres, styles, variation of grammar, functions, lexis they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ing Productive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820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Interaction with an aud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how to deal with difficul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eign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phr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ing Productive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2060640"/>
            <a:ext cx="88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ive skills in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ve students a chance to rehearse language production in safety, experimenting with different language in different genres that they will use on some future occasion away from the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cative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lls and sentences to practise a grammar point are non-communicative activities and do not belong to productive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kills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ing people to take turns, use correct punctuation: fairly controlled, however use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tage of produc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idence for students and their teachers how well things are go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ing Productive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4000" y="2060640"/>
            <a:ext cx="88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ive skills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ption and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teaching of productive skills is closely bound up with receptive skill work. The two feed off each other in a number of way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put and input -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om oursel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om the people we are communicating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om teac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as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as stim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ption as part of product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blend listening with speaking Comprehension; writing often depends upon 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TENTION: don’t have students practise skills in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ion enables recep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y insights from writing to reading; speak certain genres helps understanding conversations in similar con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ing Productive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24000" y="2060640"/>
            <a:ext cx="88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s an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students find something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ch the task with student languag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sure there is a task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ess problems caused by language students need, and the difficulties which the topic or the genre might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ly key langu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ck their knowledge of key vocabulary, help with phrases or questions that will be helpful for the task; more exposure and practice, particularly in spe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 activities in advanc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ing Productive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4000" y="2060640"/>
            <a:ext cx="88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blems and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pic and Gen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e interesting topic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find types of tasks which will involve class members; favourite topics; (through interviews and questionnaires or observ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interest in the topic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k about it and communicate enthusi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ate schemata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 interviews before role-playing; examples of typical letters written to newspapers before giving such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y topics and genr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necessary informa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bits of information are absolutely essential for the task to be a su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8:00:05Z</dcterms:created>
  <dc:creator>Marios Tziakouris</dc:creator>
  <dc:description/>
  <dc:language>en-US</dc:language>
  <cp:lastModifiedBy>CUT LC Language Instructors</cp:lastModifiedBy>
  <dcterms:modified xsi:type="dcterms:W3CDTF">2009-10-29T09:17:51Z</dcterms:modified>
  <cp:revision>26</cp:revision>
  <dc:subject/>
  <dc:title>Slide 1</dc:title>
</cp:coreProperties>
</file>